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2AC-5560-44AA-BDD5-AF928920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1FD-33FF-4BC3-A308-8B88B939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5FC-DF68-4B6A-A4A5-E15BAB9A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C48-5FB6-4510-9DDD-CE68E67D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5E5-03AC-472D-A1E9-9D5D287C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55A-1E19-4FB4-B6A0-07A21591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8FF-8F9B-4039-B495-D71A5B97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A4F-EAF5-4D05-98FF-B4C5E330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2AC-8B5B-405E-92B9-4BBF509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04A-6894-4125-AD84-4D1C573B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EE7-5E8D-4432-8211-822BEE00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C2A-9C14-4267-8D44-06FF86A5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42B7-CDBD-4D6D-A08E-4085569B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www.imdb.com/rg/mediaindex/thumbnail/media/rm1416206336/nm0000069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imdb.com/rg/mediaindex/thumbnail/media/rm1503631360/nm0000054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hyperlink" Target="http://z.about.com/d/womenshistory/1/0/z/I/jackie_kennedy.jpg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1.jpeg"/><Relationship Id="rId12" Type="http://schemas.openxmlformats.org/officeDocument/2006/relationships/image" Target="../media/image4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8.jpeg"/><Relationship Id="rId24" Type="http://schemas.openxmlformats.org/officeDocument/2006/relationships/image" Target="../media/image9.jpeg"/><Relationship Id="rId25" Type="http://schemas.openxmlformats.org/officeDocument/2006/relationships/image" Target="../media/image10.jpeg"/><Relationship Id="rId26" Type="http://schemas.openxmlformats.org/officeDocument/2006/relationships/image" Target="../media/image11.jpeg"/><Relationship Id="rId27" Type="http://schemas.openxmlformats.org/officeDocument/2006/relationships/image" Target="../media/image12.jpeg"/><Relationship Id="rId2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www.time.com/time/2003/jfk/photoessay/2.html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7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time.com/time/2003/jfk/photoessay/5.html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time.com/time/2003/jfk/photoessay/2.html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time.com/time/2003/jfk/photoessay/3.html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www.time.com/time/2003/jfk/photoessay/6.html" TargetMode="External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11.jpeg"/><Relationship Id="rId18" Type="http://schemas.openxmlformats.org/officeDocument/2006/relationships/image" Target="../media/image10.jpeg"/><Relationship Id="rId19" Type="http://schemas.openxmlformats.org/officeDocument/2006/relationships/image" Target="../media/image8.jpeg"/><Relationship Id="rId20" Type="http://schemas.openxmlformats.org/officeDocument/2006/relationships/image" Target="../media/image12.jpeg"/><Relationship Id="rId21" Type="http://schemas.openxmlformats.org/officeDocument/2006/relationships/image" Target="../media/image24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9.jpeg"/><Relationship Id="rId25" Type="http://schemas.openxmlformats.org/officeDocument/2006/relationships/image" Target="../media/image25.jpeg"/><Relationship Id="rId26" Type="http://schemas.openxmlformats.org/officeDocument/2006/relationships/image" Target="../media/image16.jpe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na Opens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na Opensh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T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in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76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al Background: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-6, HQ &amp; Pre K- 12 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9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orced, two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rank Sinatra, portrait for Kings Go Forth, 1958.&#10;Vintage silver gelatin, 7x13.5, signed. $900&#10;Â© 1978 Bill Avery&#10;MPT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c. 1953&#10;Photo by Frank Powoln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Robert F. Kennedy - Photo"/>
          <p:cNvPicPr/>
          <p:nvPr/>
        </p:nvPicPr>
        <p:blipFill>
          <a:blip r:embed="rId7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is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A picture of First Lady Jacqueline Kennedy, wife of President John F. Kenned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–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 Master’s in Reading 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0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Robert Frost"/>
          <p:cNvPicPr/>
          <p:nvPr/>
        </p:nvPicPr>
        <p:blipFill>
          <a:blip r:embed="rId10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inished ESL course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6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President Kennedy, head and shoulders portrait photograph, looking up. Photograph distributed by the White House. "/>
          <p:cNvPicPr/>
          <p:nvPr/>
        </p:nvPicPr>
        <p:blipFill>
          <a:blip r:embed="rId11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Robert F. Kennedy - Photo"/>
          <p:cNvPicPr/>
          <p:nvPr/>
        </p:nvPicPr>
        <p:blipFill>
          <a:blip r:embed="rId12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ecame a Highly Qualified Tea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3,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raduated College YEAH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resident Kennedy, head and shoulders portrait photograph, looking up. Photograph distributed by the White House. "/>
          <p:cNvPicPr/>
          <p:nvPr/>
        </p:nvPicPr>
        <p:blipFill>
          <a:blip r:embed="rId14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ave life to daughter, Mar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, 19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a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ave life to son, Dan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, 3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152280" y="533520"/>
            <a:ext cx="141624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2057400" y="24382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2057400" y="31240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2057400" y="3733920"/>
            <a:ext cx="53028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2057400" y="4495680"/>
            <a:ext cx="53028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1"/>
          <a:stretch/>
        </p:blipFill>
        <p:spPr>
          <a:xfrm>
            <a:off x="2057400" y="518148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2"/>
          <a:stretch/>
        </p:blipFill>
        <p:spPr>
          <a:xfrm>
            <a:off x="2057400" y="5791320"/>
            <a:ext cx="530280" cy="58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3"/>
          <a:stretch/>
        </p:blipFill>
        <p:spPr>
          <a:xfrm>
            <a:off x="1219320" y="5334120"/>
            <a:ext cx="503280" cy="533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4"/>
          <a:stretch/>
        </p:blipFill>
        <p:spPr>
          <a:xfrm>
            <a:off x="1219320" y="6095880"/>
            <a:ext cx="43632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5"/>
          <a:stretch/>
        </p:blipFill>
        <p:spPr>
          <a:xfrm>
            <a:off x="685800" y="6095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6"/>
          <a:stretch/>
        </p:blipFill>
        <p:spPr>
          <a:xfrm>
            <a:off x="152280" y="6095880"/>
            <a:ext cx="46044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7"/>
          <a:stretch/>
        </p:blipFill>
        <p:spPr>
          <a:xfrm>
            <a:off x="609480" y="5334120"/>
            <a:ext cx="560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n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na Opensh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 T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in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Education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-6 HQ, Pre-K – 12 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9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orced, two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:          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K-6 HQ, Pre K-12 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ov 9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ivor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o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Knoxville, Tenness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200400"/>
            <a:ext cx="4495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tudying for school, spending time with family and friends, reading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wimming, traveling and helping my community and chu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Oldies, Rock &amp; Roll, the 70’s, 80’s &amp; 90’s (everything but count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7 Brides for 7 Brothers, Sleepless in Seattle, You’ve got mail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P Chief, Big Brother, Project Runway, Rachel Zoe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Calder Series by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Janet Daile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Wicked by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regory Magui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 Children’s 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5486400"/>
            <a:ext cx="838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8080" y="6172200"/>
            <a:ext cx="838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5105520"/>
            <a:ext cx="426708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read6100comer.wikispaces.com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- mail: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tmopenshaw42@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52280" y="533520"/>
            <a:ext cx="152424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na Opensh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5238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ina and Frien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na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na’s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7"/>
          <a:stretch/>
        </p:blipFill>
        <p:spPr>
          <a:xfrm>
            <a:off x="838080" y="1905120"/>
            <a:ext cx="1143000" cy="1149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8"/>
          <a:stretch/>
        </p:blipFill>
        <p:spPr>
          <a:xfrm>
            <a:off x="22096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9"/>
          <a:stretch/>
        </p:blipFill>
        <p:spPr>
          <a:xfrm>
            <a:off x="838080" y="320040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0"/>
          <a:stretch/>
        </p:blipFill>
        <p:spPr>
          <a:xfrm>
            <a:off x="5029200" y="1828800"/>
            <a:ext cx="1600200" cy="2590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1"/>
          <a:stretch/>
        </p:blipFill>
        <p:spPr>
          <a:xfrm>
            <a:off x="3505320" y="19051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2"/>
          <a:stretch/>
        </p:blipFill>
        <p:spPr>
          <a:xfrm>
            <a:off x="3581280" y="5105520"/>
            <a:ext cx="108756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3"/>
          <a:stretch/>
        </p:blipFill>
        <p:spPr>
          <a:xfrm>
            <a:off x="152280" y="533520"/>
            <a:ext cx="69084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4"/>
          <a:stretch/>
        </p:blipFill>
        <p:spPr>
          <a:xfrm>
            <a:off x="21337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5"/>
          <a:stretch/>
        </p:blipFill>
        <p:spPr>
          <a:xfrm>
            <a:off x="3581280" y="3200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6"/>
          <a:stretch/>
        </p:blipFill>
        <p:spPr>
          <a:xfrm>
            <a:off x="2057400" y="5029200"/>
            <a:ext cx="1295280" cy="11397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7"/>
          <a:stretch/>
        </p:blipFill>
        <p:spPr>
          <a:xfrm>
            <a:off x="838080" y="5029200"/>
            <a:ext cx="10670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Tina Openshaw</cp:lastModifiedBy>
  <dcterms:modified xsi:type="dcterms:W3CDTF">2010-09-06T16:54:27Z</dcterms:modified>
  <cp:revision>21</cp:revision>
  <dc:subject/>
  <dc:title>Profile</dc:title>
</cp:coreProperties>
</file>